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7BB8-2952-4CC1-8D02-5C4AC98BD7C2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is this? Full sent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17F-D2E3-442F-BA4B-364954C99C2E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01C6-0246-4236-857C-9DE15301E12E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6FD-0C73-48DD-9390-4AD4B564E7B5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ell me what this picture is telling you about the film we are about to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does the title have to do with the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A55F-CC26-44E8-8207-B6C39DE8DBB4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man standing is called Atticus Fin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 Finch is also the name of a bi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om Robinson is the only black man in the pictur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What is he doing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64E-4A14-4F97-8EBC-28482440EECF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tticus has two childr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 boy Jem and a Girl called Sc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cout tells the 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A2C-F75E-4A07-B46F-AFC75C3C44F2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Calpurnia. She is the maid, but Atticus says that she is like a mother to the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Scout cannot remember her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E74-CAF4-49ED-B492-3D24882777C0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children have a neighbour called BOO who is hardly ever s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e children are frightened of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0950-E2EC-44DB-9F49-EC2D82A7B0CD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om Robinson lives in a world separated between black and wh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FAD-E55C-4CF9-95AD-F1BF97A9D698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Atticus kills a living creature, but it is very different from killing a mocking bi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C5A-4550-450C-B066-899C5AF716AE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People were without jobs, some without homes and were dependent on people giving them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This is a picture of a men at a soup kitch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Calibri"/>
              </a:rPr>
              <a:t>Black people were generally poorer and had lower status than whites and were perhaps even poorer during the depression in the 1930’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DF5C-D14A-4EB4-B4E5-2EC0E6E7B154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923-0BF1-4EC7-9AB2-4164F6E8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6C9-6F2F-450B-849F-CB54BD5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0BD-2CB6-4CD7-864A-BD74986F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5B0-E53A-428C-8A3E-F109F3F7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6B4-DDF9-4D3F-9655-72199DAF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559-CEF8-4BD0-95D6-D3806050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EE7-0F0F-4E9C-8DFF-13519B5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89A-1670-42F7-84C9-036A80BE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219-10FC-496A-B058-875B6A7B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39D-2DD3-40E5-B334-4EB6342A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ACA-5837-424C-99C0-BA5F7DE7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E8D-081D-4E55-AF33-42D0863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3E5-15D3-4DFB-A7FA-CB4DC23998FE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Mocking Bi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seattlepi.nwsource.com/dayart/20070914/450_mockingbird.jpg"/>
          <p:cNvPicPr/>
          <p:nvPr/>
        </p:nvPicPr>
        <p:blipFill>
          <a:blip r:embed="rId1"/>
          <a:stretch/>
        </p:blipFill>
        <p:spPr>
          <a:xfrm>
            <a:off x="2214720" y="1643040"/>
            <a:ext cx="4903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To Kill a Mocking Bird was set in the 1930’s but published in 196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7140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55–195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a Parks and the Montgomery Bus Boycot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-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dom R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er Registration Organiz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ch on Washing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. King Awarded Nobel Peace Pr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vil Rights Act protection of minorities by Federal law &amp; can overrule state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ycott of New Orleans by American Football League 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ing Rights Act: State Regulations preventing minorities from voting abolish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6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phis, King assassinated and the Poor People's Mar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WHAT DO YOU THINK THE THEME OF TO KILL A MOCKING BIRD 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695808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To Kill a Mocking Bird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a novel by</a:t>
            </a:r>
            <a:br>
              <a:rPr sz="4000"/>
            </a:b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Harper L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buffyholt.com/blog/wp-content/uploads/2007/11/to-kill-a-mockingbird.gif"/>
          <p:cNvPicPr/>
          <p:nvPr/>
        </p:nvPicPr>
        <p:blipFill>
          <a:blip r:embed="rId1"/>
          <a:stretch/>
        </p:blipFill>
        <p:spPr>
          <a:xfrm>
            <a:off x="2500200" y="2643120"/>
            <a:ext cx="42865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Atticus a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heboyganfalls.k12.wi.us/students/hogue10/10cjlorg/images/to-kill-a-mockingbird-full%5B1%5D.jpg"/>
          <p:cNvPicPr/>
          <p:nvPr/>
        </p:nvPicPr>
        <p:blipFill>
          <a:blip r:embed="rId1"/>
          <a:stretch/>
        </p:blipFill>
        <p:spPr>
          <a:xfrm>
            <a:off x="1714680" y="2143080"/>
            <a:ext cx="60958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Atticus at h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sixthman.net/blog/wp-content/uploads/2008/11/mockingbird3.jpg"/>
          <p:cNvPicPr/>
          <p:nvPr/>
        </p:nvPicPr>
        <p:blipFill>
          <a:blip r:embed="rId1"/>
          <a:stretch/>
        </p:blipFill>
        <p:spPr>
          <a:xfrm>
            <a:off x="642960" y="1357200"/>
            <a:ext cx="4154400" cy="478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a6.vox.com/6a00c225287c8b8e1d00d4144564563c7f-500pi"/>
          <p:cNvPicPr/>
          <p:nvPr/>
        </p:nvPicPr>
        <p:blipFill>
          <a:blip r:embed="rId2"/>
          <a:stretch/>
        </p:blipFill>
        <p:spPr>
          <a:xfrm>
            <a:off x="5286240" y="1357200"/>
            <a:ext cx="3462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frankwbaker.com/calpurnia.jpg"/>
          <p:cNvPicPr/>
          <p:nvPr/>
        </p:nvPicPr>
        <p:blipFill>
          <a:blip r:embed="rId1"/>
          <a:stretch/>
        </p:blipFill>
        <p:spPr>
          <a:xfrm>
            <a:off x="1357200" y="785880"/>
            <a:ext cx="2714760" cy="3465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57200" y="4357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Calpur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www.mmgcollectibles.com/images/R/RH/RH322f.jpg"/>
          <p:cNvPicPr/>
          <p:nvPr/>
        </p:nvPicPr>
        <p:blipFill>
          <a:blip r:embed="rId2"/>
          <a:stretch/>
        </p:blipFill>
        <p:spPr>
          <a:xfrm>
            <a:off x="4286160" y="78588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857840" y="4357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Calibri"/>
              </a:rPr>
              <a:t>D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Bo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frankwbaker.com/porchscene.jpg"/>
          <p:cNvPicPr/>
          <p:nvPr/>
        </p:nvPicPr>
        <p:blipFill>
          <a:blip r:embed="rId1"/>
          <a:stretch/>
        </p:blipFill>
        <p:spPr>
          <a:xfrm>
            <a:off x="2500200" y="221472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om Robi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mage, Source: digital file from original neg."/>
          <p:cNvPicPr/>
          <p:nvPr/>
        </p:nvPicPr>
        <p:blipFill>
          <a:blip r:embed="rId1"/>
          <a:stretch/>
        </p:blipFill>
        <p:spPr>
          <a:xfrm>
            <a:off x="1785960" y="1643040"/>
            <a:ext cx="6095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he hidden side of Atti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sheboyganfalls.k12.wi.us/students/2009/09cjsach/images/to_kill_a_mockingbird1%5B1%5D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The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camas.wednet.edu/chs/staff/mgardner/images/gd41.gif"/>
          <p:cNvPicPr/>
          <p:nvPr/>
        </p:nvPicPr>
        <p:blipFill>
          <a:blip r:embed="rId1"/>
          <a:stretch/>
        </p:blipFill>
        <p:spPr>
          <a:xfrm>
            <a:off x="1714680" y="1428840"/>
            <a:ext cx="57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8:02:26Z</dcterms:created>
  <dc:creator>.</dc:creator>
  <dc:description/>
  <dc:language>en-US</dc:language>
  <cp:lastModifiedBy>.</cp:lastModifiedBy>
  <dcterms:modified xsi:type="dcterms:W3CDTF">2009-03-02T19:25:07Z</dcterms:modified>
  <cp:revision>10</cp:revision>
  <dc:subject/>
  <dc:title>Mocking Bird</dc:title>
</cp:coreProperties>
</file>